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C3AD8-96D9-497D-8D05-2532C4DA7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E8772-279D-4309-8C3F-23D3B27FE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C061A-F5D3-4FAD-BA3C-02E294EB9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7E206-8DD7-4770-B032-ACBFFD70F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1D311-1930-467A-8CD5-0EADF7AF4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6F51F-85E1-4C6F-AC70-E2E1937B9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9E3DE-F852-4C5C-BC12-0E9F44942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E8983-B885-4212-8C74-09D02C193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851AA-C90A-4D9B-B508-101A2CF13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077B5-DE1D-4AF2-AFC6-21AF792F7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82F77-3072-4F62-B4AB-2B7D4AE2F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2406B-33A4-4E85-8AB6-0C0A413B6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03DC0-C8BB-4966-961F-0A59688F9A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914400" y="50328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57200" y="205740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000000"/>
                </a:solidFill>
                <a:latin typeface="Arial"/>
              </a:rPr>
              <a:t>Модул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1: С</a:t>
            </a:r>
            <a:r>
              <a:rPr b="1" lang="sr-CS" sz="1600" spc="-1" strike="noStrike">
                <a:solidFill>
                  <a:srgbClr val="000000"/>
                </a:solidFill>
                <a:latin typeface="Arial"/>
              </a:rPr>
              <a:t>амоспознај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редстављање програма и портфолија за ученике/ц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О и договарање о начину ра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У свету интересовањ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У свету вештина и способ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ут способ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У свету вред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Самоспознаја – аутопортре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У очима други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Какав/каква сам у тим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Мој тип учењ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Ја за 10 годи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За родитеље/старетеље и децу: Моја очекивањ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71600" y="1484280"/>
            <a:ext cx="5791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1865160"/>
            <a:ext cx="7010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04920" y="14479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cc0000"/>
                </a:solidFill>
                <a:latin typeface="Arial"/>
              </a:rPr>
              <a:t>Програм професионалне оријентације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- VII </a:t>
            </a:r>
            <a:r>
              <a:rPr b="1" lang="sr-CS" sz="2400" spc="-1" strike="noStrike">
                <a:solidFill>
                  <a:srgbClr val="cc0000"/>
                </a:solidFill>
                <a:latin typeface="Arial"/>
              </a:rPr>
              <a:t>разре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914400" y="50328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205740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Модул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2,3: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Информисање о занимањима, каријери и путевима образовањ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.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лика савременог света ра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14. Прикупљање и начин обраде информација  о школама и занимањи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15. Повезивање области рада са занимањи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16. Путеви образовања и каријер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17. Припрема за интервј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18. Спровођење интервју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19. Припрема сусрета са експертима у шко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20. Експерти у нашој шко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371600" y="1484280"/>
            <a:ext cx="5791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04920" y="14479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cc0000"/>
                </a:solidFill>
                <a:latin typeface="Arial"/>
              </a:rPr>
              <a:t>Програм професионалне оријентације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- VII </a:t>
            </a:r>
            <a:r>
              <a:rPr b="1" lang="sr-CS" sz="2400" spc="-1" strike="noStrike">
                <a:solidFill>
                  <a:srgbClr val="cc0000"/>
                </a:solidFill>
                <a:latin typeface="Arial"/>
              </a:rPr>
              <a:t>разре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914400" y="50328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205740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Модул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4,5: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Реални сусрети са светом рада и доношење одлуке о школовању и занимањ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21. Осверт на резултате информисањ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22. Посета средњој шко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23. Посета предузећу/устанв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24. Евалуација програма ПО за 7. разре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+ 15 </a:t>
            </a:r>
            <a:r>
              <a:rPr b="1" lang="sr-CS" sz="2000" spc="-1" strike="noStrike">
                <a:solidFill>
                  <a:srgbClr val="cc0000"/>
                </a:solidFill>
                <a:latin typeface="Arial"/>
              </a:rPr>
              <a:t>часова реалних сусре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371600" y="1484280"/>
            <a:ext cx="5791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04920" y="14479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cc0000"/>
                </a:solidFill>
                <a:latin typeface="Arial"/>
              </a:rPr>
              <a:t>Програм професионалне оријентације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- VII </a:t>
            </a:r>
            <a:r>
              <a:rPr b="1" lang="sr-CS" sz="2400" spc="-1" strike="noStrike">
                <a:solidFill>
                  <a:srgbClr val="cc0000"/>
                </a:solidFill>
                <a:latin typeface="Arial"/>
              </a:rPr>
              <a:t>разре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ina</dc:creator>
  <dc:description/>
  <dc:language>en-US</dc:language>
  <cp:lastModifiedBy>WINDOWS XP</cp:lastModifiedBy>
  <dcterms:modified xsi:type="dcterms:W3CDTF">2012-02-07T13:00:56Z</dcterms:modified>
  <cp:revision>2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